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CE1-CAB7-4D47-AF7C-92BF1974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42B-113D-4974-962F-EC4E693B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AE3-CF35-438C-8D61-BD51E9D0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BDE-2FDC-4E20-91A0-85BFD3F1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12E-4824-48AA-A4BD-A62F9618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485-D4A8-4509-9B19-AEA49DF1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341-F9C1-475D-91FE-43B99324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356-7203-4739-BA98-152F6A3C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9FA-13EA-4E03-9D83-4F4462F7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0E1-56B6-4AD7-83A1-C114DBD9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DF5-AB9F-4546-AA95-CEC8E318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E32-6E55-42FD-824B-D67F592D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8B21-965F-4C7A-8F4F-207C7379E2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nglishrussia.com/images/weird_russian_matreshkas/1.jpg&amp;imgrefurl=http://englishrussia.com/index.php/2007/09/11/weird-looking-russian-matryoshkas/&amp;usg=__skfFu8W5R2cT_CUFGKa9q4hcNM4=&amp;h=376&amp;w=500&amp;sz=34&amp;hl=en&amp;start=1&amp;zoom=1&amp;um=1&amp;itbs=1&amp;tbnid=txzzrHkzS-R3ZM:&amp;tbnh=98&amp;tbnw=130&amp;prev=/images%3Fq%3Drussian%2Bculture%26um%3D1%26hl%3Den%26sa%3DN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red-october.net/wp-content/uploads/2008/12/russian-ballet.jpg&amp;imgrefurl=http://www.red-october.net/2006/05/music-and-the-arts/&amp;usg=__PW1f6lpxsuCzFu1LvhD58omappU=&amp;h=343&amp;w=300&amp;sz=18&amp;hl=en&amp;start=1&amp;zoom=1&amp;um=1&amp;itbs=1&amp;tbnid=eYsBw0CRE2UqvM:&amp;tbnh=120&amp;tbnw=105&amp;prev=/images%3Fq%3Drussian%2Bballet%26um%3D1%26hl%3Den%26sa%3DN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aytorussia.net/userfiles/image/WhatIsRussia/RussianFood/Soups/borcsh.jpg&amp;imgrefurl=http://www.waytorussia.net/WhatIsRussia/RussianFood/Soups.html&amp;usg=__1eZRkBcoQgEBanWZV-_x5Gvgu7o=&amp;h=180&amp;w=200&amp;sz=24&amp;hl=en&amp;start=2&amp;zoom=1&amp;um=1&amp;itbs=1&amp;tbnid=ufnK1SDSZo40cM:&amp;tbnh=94&amp;tbnw=104&amp;prev=/images%3Fq%3Dtraditional%2Brussian%2Bfood%26um%3D1%26hl%3Den%26sa%3DX%26tbs%3Disch: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 In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Julia Cassetta &amp; Clare Doher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572000"/>
            <a:ext cx="265608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://www.1uptravel.com/flags/images/rs-lgflag.gif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libri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st rulers severe limits on relig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poken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daism , Islam, and Christia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st number practices Christian fai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popular religion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ic, art, and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place to find Russian culture is St. Petersburg’s th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museum in St. Petersbur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ous poet Alexander Pushkin protes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o Tolstoy’s novel war and peace prot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4760" y="4876920"/>
            <a:ext cx="1533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eb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Years E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th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ist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day of m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ould start with a soup called bors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t (turn over'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733920"/>
            <a:ext cx="2743200" cy="2479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30290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Calibri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similar to 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 same letters look the same but do not sound the s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43:35Z</dcterms:created>
  <dc:creator> </dc:creator>
  <dc:description/>
  <dc:language>en-US</dc:language>
  <cp:lastModifiedBy> </cp:lastModifiedBy>
  <dcterms:modified xsi:type="dcterms:W3CDTF">2010-12-20T17:12:21Z</dcterms:modified>
  <cp:revision>8</cp:revision>
  <dc:subject/>
  <dc:title>Culture</dc:title>
</cp:coreProperties>
</file>